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2"/>
          </p:nvPr>
        </p:nvSpPr>
        <p:spPr>
          <a:xfrm>
            <a:off x="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3"/>
          </p:nvPr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FF9A-52B2-4732-A915-D8BA7A09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3EC2-4CB7-4A38-AE3F-1D6A4D4CA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978D-33C4-49A2-9867-3E1BD11CD2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1F5-EEC5-4C0D-B799-1B03DC836E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942D-B304-4853-81AE-9729EF44F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A6D8-25DA-4407-991B-62D6EA3132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6D79-D700-4519-9E5D-860E0AA39B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799-878B-4AD7-BD59-BF17C6E7C8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260C-2680-4A84-A191-C967CFE754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EEBD-79B4-4F43-959C-D49EA8E9C9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71F4-A009-4FCA-B171-97C0DC2A44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579600" y="260280"/>
            <a:ext cx="5678280" cy="42591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88440" y="4669920"/>
            <a:ext cx="592308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49A-4FAF-460F-AFEA-DA16652AA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C98-FAE8-4688-91DD-398593EF74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BC23-860D-4A05-B14E-E1222981E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2E58-54B6-407D-B7FE-D6190AB871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3365-E143-4771-B4B0-802BB411AC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579600" y="260280"/>
            <a:ext cx="5676840" cy="42577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90600" y="4671720"/>
            <a:ext cx="59227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F409-B987-4BF8-8B2F-C4FD34C0B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9578-3BA2-4659-BF8D-5DF6FD9561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4400" y="74772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70E4-9E00-4F8C-9B7D-711AA1105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41920" y="942192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FFC1-8186-454F-886B-EDA9452E96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4044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532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5556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4044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532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5200" y="438120"/>
            <a:ext cx="711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4044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5320" y="15717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556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4044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5320" y="34376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55200" y="438120"/>
            <a:ext cx="7116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24640" y="34376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24640" y="15717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5560" y="34376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d1d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0"/>
            <a:ext cx="9144000" cy="177840"/>
          </a:xfrm>
          <a:prstGeom prst="rect">
            <a:avLst/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58480" indent="-2584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640" indent="-2599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000" indent="-176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816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056600" y="666252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© 2008 Cisco Systems, Inc. All rights reserved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3198240" y="6662520"/>
            <a:ext cx="152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Cisco  University Relations Europe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12920" y="6662520"/>
            <a:ext cx="10904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777777"/>
                </a:solidFill>
                <a:latin typeface="Arial"/>
              </a:rPr>
              <a:t>SMB 09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39484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D452A4E-E8CF-4ACD-A5F1-81089CF0883E}" type="slidenum">
              <a:rPr b="0" lang="en-US" sz="1000" spc="-1" strike="noStrike">
                <a:solidFill>
                  <a:srgbClr val="77777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7896240" y="325440"/>
            <a:ext cx="1123920" cy="493560"/>
            <a:chOff x="7896240" y="325440"/>
            <a:chExt cx="1123920" cy="493560"/>
          </a:xfrm>
        </p:grpSpPr>
        <p:sp>
          <p:nvSpPr>
            <p:cNvPr id="8" name="AutoShape 10"/>
            <p:cNvSpPr/>
            <p:nvPr/>
          </p:nvSpPr>
          <p:spPr>
            <a:xfrm>
              <a:off x="7896240" y="325440"/>
              <a:ext cx="112392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8211600" y="651960"/>
              <a:ext cx="5148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8509680" y="648000"/>
              <a:ext cx="1479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98480" y="648000"/>
              <a:ext cx="14796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8712000" y="648000"/>
              <a:ext cx="20304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8328600" y="648000"/>
              <a:ext cx="132840" cy="168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896240" y="458640"/>
              <a:ext cx="478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3160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163360" y="327240"/>
              <a:ext cx="4788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29908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430840" y="458640"/>
              <a:ext cx="5148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56656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700840" y="327240"/>
              <a:ext cx="48960" cy="25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834040" y="402480"/>
              <a:ext cx="47880" cy="138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968320" y="458640"/>
              <a:ext cx="48960" cy="8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" name="Rectangle 25"/>
          <p:cNvSpPr/>
          <p:nvPr/>
        </p:nvSpPr>
        <p:spPr>
          <a:xfrm>
            <a:off x="193680" y="6672240"/>
            <a:ext cx="1787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700" spc="-1" strike="noStrike">
                <a:solidFill>
                  <a:srgbClr val="777777"/>
                </a:solidFill>
                <a:latin typeface="Arial"/>
              </a:rPr>
              <a:t>Graduate Recruitment NetReady 5/2007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d1d5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5" descr="Holder - pt01 - BG"/>
          <p:cNvPicPr/>
          <p:nvPr/>
        </p:nvPicPr>
        <p:blipFill>
          <a:blip r:embed="rId2"/>
          <a:stretch/>
        </p:blipFill>
        <p:spPr>
          <a:xfrm>
            <a:off x="0" y="0"/>
            <a:ext cx="9140760" cy="68547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3"/>
          <p:cNvGrpSpPr/>
          <p:nvPr/>
        </p:nvGrpSpPr>
        <p:grpSpPr>
          <a:xfrm>
            <a:off x="609480" y="525600"/>
            <a:ext cx="1447920" cy="769680"/>
            <a:chOff x="609480" y="525600"/>
            <a:chExt cx="1447920" cy="769680"/>
          </a:xfrm>
        </p:grpSpPr>
        <p:sp>
          <p:nvSpPr>
            <p:cNvPr id="62" name="AutoShape 4"/>
            <p:cNvSpPr/>
            <p:nvPr/>
          </p:nvSpPr>
          <p:spPr>
            <a:xfrm>
              <a:off x="609480" y="525600"/>
              <a:ext cx="1447920" cy="76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1015920" y="1035000"/>
              <a:ext cx="6660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1400040" y="1028880"/>
              <a:ext cx="19080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741240" y="1028880"/>
              <a:ext cx="19080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1660680" y="1028880"/>
              <a:ext cx="26172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1166760" y="1028880"/>
              <a:ext cx="171360" cy="263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609480" y="733320"/>
              <a:ext cx="6192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78408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954000" y="528480"/>
              <a:ext cx="6192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112860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1298520" y="733320"/>
              <a:ext cx="6660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47312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646280" y="528480"/>
              <a:ext cx="63360" cy="395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1817640" y="646200"/>
              <a:ext cx="61920" cy="21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1990800" y="733320"/>
              <a:ext cx="63360" cy="128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7" name="Picture 19" descr=""/>
          <p:cNvPicPr/>
          <p:nvPr/>
        </p:nvPicPr>
        <p:blipFill>
          <a:blip r:embed="rId3"/>
          <a:srcRect l="2155" t="30262" r="33918" b="0"/>
          <a:stretch/>
        </p:blipFill>
        <p:spPr>
          <a:xfrm>
            <a:off x="1440" y="1952640"/>
            <a:ext cx="9142560" cy="2381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58480" indent="-2584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640" indent="-25992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4000" indent="-17676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7816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12320" indent="-259920">
              <a:lnSpc>
                <a:spcPct val="9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32040"/>
            <a:ext cx="4235400" cy="1154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areer Guidance Tools - Competency Based Interview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50520" y="4733640"/>
            <a:ext cx="6940440" cy="1057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Alfie Hami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Regional Lea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Sub-Saharan Africa (except East Afric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400" spc="-1" strike="noStrike">
                <a:solidFill>
                  <a:srgbClr val="c0c0c4"/>
                </a:solidFill>
                <a:latin typeface="Arial"/>
              </a:rPr>
              <a:t>Cisco Networking Academ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LAE25194"/>
          <p:cNvPicPr/>
          <p:nvPr/>
        </p:nvPicPr>
        <p:blipFill>
          <a:blip r:embed="rId1"/>
          <a:stretch/>
        </p:blipFill>
        <p:spPr>
          <a:xfrm>
            <a:off x="5022720" y="1981080"/>
            <a:ext cx="4121280" cy="25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y do they do i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y based interview ques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re used in an effort to make the interview process as standard and as fair as possible. It is a technique which is being used increasingly in large organizations where many managers may be interviewing for the same type of posi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does it look lik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marL="239760" indent="-239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general a competency based  interview is one in which the interview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1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s on the behaviors and traits that are critical to success o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job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2600" indent="-241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cuses on how the candidate has demonstrated these skills in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-239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oundation of this focus is the behavioral question.  The behavioral question requires you, the candidate, to recall and describe a specific situation or event in which you demonstrated (or failed to demonstrate) a skill critical for success in the position for which you are apply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97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ehavior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ioral ques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looking for information about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The details of a specific situation or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specific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action or behavior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The outcome of the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ioral question is 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king fo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yo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“think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would do in a situatio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assessmen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wn strenghts, weakness’ o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 Why Use this Approach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Advantages of seeking past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misunderstandings about 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past experi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effort to “make a good impress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Reduces emphasis on the “hypothetic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revents personal impressions from affecting e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Provides actual examples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 knowledge, skills and attribu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motes consistency in interviews and assures all key areas for success are covered in the conver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72000" y="5562720"/>
            <a:ext cx="746640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Past Behavior is the Best Predictor of Future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2514600" y="3308400"/>
            <a:ext cx="1600200" cy="1371600"/>
          </a:xfrm>
          <a:prstGeom prst="pi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ehavor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al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9000"/>
          </a:bodyPr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l questi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 looking for information about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tuation or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k: details of a specific time or ev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ion:  the actions you too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ult: 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he outcome of the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call this the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T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response.   Easy to remember; not so easy to 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600" indent="-21060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 behav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al question is </a:t>
            </a:r>
            <a:r>
              <a:rPr b="0" lang="tr-TR" sz="2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ooking for</a:t>
            </a: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pi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“think”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would do in a situation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120" indent="-2116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assessment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 own streng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weaknes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R response – Wh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685800" y="1600200"/>
            <a:ext cx="7924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ze your answer (ST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ituation / Task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Here is the problem/iss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ction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Here are the steps I too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0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sult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These were the res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in and Get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ory can show several skill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ready with several stories demonstrating each success factor.  Think about your background, and what you have on your C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R response – How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specific; use an actual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Situ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not an imagined 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s you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 what did you do? how did you handle the situation or project?  In describing your actions you should tell your interview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(specifically and in detail) you did (not the team, but you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you spoke with, what you had to learn or man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9280" indent="-20772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you arrived at a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sure you focus on what you did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should say the word “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a lo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-2102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scribe th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Resul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 event.  Although it is good to use a successful example, you can use failed examples as well – but make sure you demonstrate what you learned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024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09480" y="342900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Competen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core competencies required in many jobs are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munication skil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Delivering Result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Use of Initiativ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Planning and Organiz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Analytical and/or Strategic Thinking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Building relationship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Team Work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reparation for a Competency Based Interview the experienced interviewer will draw up a list of questions relating to each competency and all directed towards discovering if you have those skills necessary for the jo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sco’s Core Competencies – Sales Ro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7000"/>
          </a:bodyPr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05200" indent="-20520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0628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609480" y="152388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8580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hoose these Competencies to Measure if Candidates will Fit into Cisco’s Cul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3809520"/>
            <a:ext cx="3657600" cy="217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nov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tinuous improv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Quality te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ing Back/Trust/Fair/Integ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u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-226440">
              <a:lnSpc>
                <a:spcPct val="7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power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6440" indent="0">
              <a:lnSpc>
                <a:spcPct val="7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03280" y="3733560"/>
            <a:ext cx="4140360" cy="217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5000"/>
          </a:bodyPr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fit contrib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o Technology Relig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rket Transi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pen Commun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am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-199800">
              <a:lnSpc>
                <a:spcPct val="95000"/>
              </a:lnSpc>
              <a:spcBef>
                <a:spcPts val="1375"/>
              </a:spcBef>
              <a:buClr>
                <a:srgbClr val="0183b7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rive chan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998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"/>
          <p:cNvGrpSpPr/>
          <p:nvPr/>
        </p:nvGrpSpPr>
        <p:grpSpPr>
          <a:xfrm>
            <a:off x="0" y="1828800"/>
            <a:ext cx="9155160" cy="1676520"/>
            <a:chOff x="0" y="1828800"/>
            <a:chExt cx="9155160" cy="1676520"/>
          </a:xfrm>
        </p:grpSpPr>
        <p:pic>
          <p:nvPicPr>
            <p:cNvPr id="179" name="Picture 6" descr="man with computer"/>
            <p:cNvPicPr/>
            <p:nvPr/>
          </p:nvPicPr>
          <p:blipFill>
            <a:blip r:embed="rId1"/>
            <a:stretch/>
          </p:blipFill>
          <p:spPr>
            <a:xfrm>
              <a:off x="2430360" y="1839960"/>
              <a:ext cx="2167200" cy="16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7" descr="man and women loking at papers"/>
            <p:cNvPicPr/>
            <p:nvPr/>
          </p:nvPicPr>
          <p:blipFill>
            <a:blip r:embed="rId2"/>
            <a:stretch/>
          </p:blipFill>
          <p:spPr>
            <a:xfrm>
              <a:off x="0" y="1839960"/>
              <a:ext cx="244332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Rectangle 8"/>
            <p:cNvSpPr/>
            <p:nvPr/>
          </p:nvSpPr>
          <p:spPr>
            <a:xfrm>
              <a:off x="2398680" y="1828800"/>
              <a:ext cx="7452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2" name="Picture 9" descr="SHAKE HANDS WITH GRAPH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4592520" y="1849680"/>
              <a:ext cx="2197440" cy="16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0" descr="man women and computer"/>
            <p:cNvPicPr/>
            <p:nvPr/>
          </p:nvPicPr>
          <p:blipFill>
            <a:blip r:embed="rId4"/>
            <a:stretch/>
          </p:blipFill>
          <p:spPr>
            <a:xfrm>
              <a:off x="6705720" y="1839960"/>
              <a:ext cx="2449440" cy="16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Rectangle 11"/>
            <p:cNvSpPr/>
            <p:nvPr/>
          </p:nvSpPr>
          <p:spPr>
            <a:xfrm>
              <a:off x="6705720" y="1828800"/>
              <a:ext cx="6660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4525920" y="1828800"/>
              <a:ext cx="66600" cy="166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09480" y="396252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ing for a Competency Based Intervie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ost common type ar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al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These are also called Situational and are used as a tool to discover how your behavior in a previous role or situation can contribute to your performance in the job being recruited f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s of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ior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1360" indent="-2332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ll me about a time..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ive an example of a &lt;Stressful, Successful, Important&gt; situation you found yourself in and what did you do?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a situation which caused you a problem and tell me how you resolved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hing to be aware of; even if your interview is not described as such, it is very likely in today's recruitment market that you will be aske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ency Based Interview Ques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457200" y="5813280"/>
            <a:ext cx="8229600" cy="74052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st preparation is to know your own background and know the job description of the job you are applying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09480" y="449568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1131840" y="5094360"/>
            <a:ext cx="2535120" cy="325440"/>
          </a:xfrm>
          <a:prstGeom prst="roundRect">
            <a:avLst>
              <a:gd name="adj" fmla="val 16667"/>
            </a:avLst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’s Review – Cisco’s Core Competenc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95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ori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For Example..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1963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Competency: Customer Ori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440" indent="-257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efinition: A willingness to help and serve others and meet their needs whether they are internal or external customers.  Understands urgenc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2000" spc="-1" strike="noStrike">
                <a:solidFill>
                  <a:srgbClr val="ffffff"/>
                </a:solidFill>
                <a:latin typeface="Arial"/>
              </a:rPr>
              <a:t>Question: Tell me about a time when you felt effective in dealing with a customer (internal or external).  What was the outcome? How and when did you communicate your findings to the custom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692360" y="4038480"/>
            <a:ext cx="6480000" cy="2592360"/>
          </a:xfrm>
          <a:prstGeom prst="roundRect">
            <a:avLst>
              <a:gd name="adj" fmla="val 16667"/>
            </a:avLst>
          </a:prstGeom>
          <a:solidFill>
            <a:srgbClr val="0183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Respons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Verdana"/>
              </a:rPr>
              <a:t>I recently completed my thesis and presented my findings to the academic review board.  I asked my advisor for the background of the board members and saw that two had a specialization in the topic of my thesis so I knew to expect a lot of challenging questions.  I made sure that I had double checked all of my data and knew my sources before the review meeting so I was able to answer even the most obsecure questions.  Also my advisor had mentioned that there was one member of the board who had problems with his sight so I made sure that all of my documents were printed in a larger font to make them easier to rea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its your turn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55560" y="1523520"/>
            <a:ext cx="7940880" cy="4953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ffective Commun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od listening and presentation ski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explain complex issues in a simplified ma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li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deal with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le to take constructive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team player and l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-ori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es Person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n to be in 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er ori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75000"/>
              </a:lnSpc>
              <a:spcBef>
                <a:spcPts val="125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hievement Orie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risk-averse, uses initia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d to succe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9144000" cy="4280040"/>
            <a:chOff x="0" y="0"/>
            <a:chExt cx="9144000" cy="4280040"/>
          </a:xfrm>
        </p:grpSpPr>
        <p:sp>
          <p:nvSpPr>
            <p:cNvPr id="204" name="Rectangle 3"/>
            <p:cNvSpPr/>
            <p:nvPr/>
          </p:nvSpPr>
          <p:spPr>
            <a:xfrm>
              <a:off x="0" y="0"/>
              <a:ext cx="9144000" cy="136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5" name="Group 4"/>
            <p:cNvGrpSpPr/>
            <p:nvPr/>
          </p:nvGrpSpPr>
          <p:grpSpPr>
            <a:xfrm>
              <a:off x="0" y="2119320"/>
              <a:ext cx="9144000" cy="2160720"/>
              <a:chOff x="0" y="2119320"/>
              <a:chExt cx="9144000" cy="2160720"/>
            </a:xfrm>
          </p:grpSpPr>
          <p:sp>
            <p:nvSpPr>
              <p:cNvPr id="206" name="Rectangle 5"/>
              <p:cNvSpPr/>
              <p:nvPr/>
            </p:nvSpPr>
            <p:spPr>
              <a:xfrm>
                <a:off x="0" y="2119320"/>
                <a:ext cx="8915400" cy="2152800"/>
              </a:xfrm>
              <a:prstGeom prst="rect">
                <a:avLst/>
              </a:prstGeom>
              <a:solidFill>
                <a:srgbClr val="3067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07" name="Picture 6" descr="MAE18802"/>
              <p:cNvPicPr/>
              <p:nvPr/>
            </p:nvPicPr>
            <p:blipFill>
              <a:blip r:embed="rId1"/>
              <a:srcRect l="13815" t="0" r="0" b="13714"/>
              <a:stretch/>
            </p:blipFill>
            <p:spPr>
              <a:xfrm>
                <a:off x="5638680" y="2128680"/>
                <a:ext cx="3505320" cy="215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8" name="Rectangle 7"/>
          <p:cNvSpPr/>
          <p:nvPr/>
        </p:nvSpPr>
        <p:spPr>
          <a:xfrm>
            <a:off x="57240" y="2919240"/>
            <a:ext cx="557676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 anchorCtr="1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 and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5"/>
          <p:cNvGrpSpPr/>
          <p:nvPr/>
        </p:nvGrpSpPr>
        <p:grpSpPr>
          <a:xfrm>
            <a:off x="0" y="0"/>
            <a:ext cx="9144000" cy="4371840"/>
            <a:chOff x="0" y="0"/>
            <a:chExt cx="9144000" cy="4371840"/>
          </a:xfrm>
        </p:grpSpPr>
        <p:pic>
          <p:nvPicPr>
            <p:cNvPr id="210" name="Picture 3" descr="Cisco_Logo_RGB-2Color_Video"/>
            <p:cNvPicPr/>
            <p:nvPr/>
          </p:nvPicPr>
          <p:blipFill>
            <a:blip r:embed="rId1"/>
            <a:stretch/>
          </p:blipFill>
          <p:spPr>
            <a:xfrm>
              <a:off x="2743200" y="2362320"/>
              <a:ext cx="3809880" cy="20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Rectangle 4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Interview Stru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403280" y="1916280"/>
            <a:ext cx="2448000" cy="129672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Open the interview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172200" y="5029200"/>
            <a:ext cx="2448000" cy="129708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Close the Inter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00400" y="3276720"/>
            <a:ext cx="3745080" cy="1728720"/>
          </a:xfrm>
          <a:prstGeom prst="rect">
            <a:avLst/>
          </a:prstGeom>
          <a:solidFill>
            <a:srgbClr val="0183b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Gathering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886200" y="1905120"/>
            <a:ext cx="316872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Introduce yourself, establish rap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et your interviewer tell you what the agenda for the discussion will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isten to the interviewer, they will give you their expectations of the inter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948360" y="3645000"/>
            <a:ext cx="20163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Behavioral Ques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Verdana"/>
              </a:rPr>
              <a:t>Technical Scre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General CV Information confir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195640" y="5013360"/>
            <a:ext cx="388908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sk the questions you 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Try to obtain more specific details about the job 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sk the interviewer what the next steps are and when you can expect to hear back from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Body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fens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Cross arms or legs, gesture with arm, hand or fin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Insec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ting fingernails, thumb rubb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Nervo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Sighs, ear tugging, sweating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Frust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Wringing hands, sharp exhales, rubbing back of neck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Suspic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Stroke the nose, rub the eyes, diagonal sta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Open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Opened hands, unbuttoned jacket, uncrossed leg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3120" indent="-213120">
              <a:lnSpc>
                <a:spcPct val="95000"/>
              </a:lnSpc>
              <a:spcBef>
                <a:spcPts val="1001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Reflectiven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1320" indent="-214560">
              <a:lnSpc>
                <a:spcPct val="95000"/>
              </a:lnSpc>
              <a:spcBef>
                <a:spcPts val="612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Rubbing chin, touching cheek, pinching bridge of no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314720" y="6095880"/>
            <a:ext cx="684288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Not Just What You Say, It’s How You Say It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 Prepa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interviewer will prepare prior to every interview with specific questions for each candidate…we expect the same from you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my company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you checked out our web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know who our competitors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you understand the job your applying f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id you apply to this posi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4240" indent="-2682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 you see your career develop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3440" y="5562720"/>
            <a:ext cx="8264880" cy="411480"/>
          </a:xfrm>
          <a:prstGeom prst="rect">
            <a:avLst/>
          </a:prstGeom>
          <a:solidFill>
            <a:srgbClr val="0183b7"/>
          </a:solidFill>
          <a:ln w="0">
            <a:noFill/>
          </a:ln>
          <a:effectLst>
            <a:outerShdw dist="107932" dir="8100000" blurRad="0" rotWithShape="0">
              <a:srgbClr val="83a2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can make the difference between getting the job or no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09480" y="2057400"/>
            <a:ext cx="7162920" cy="45720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66760" indent="-2667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d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widely used in business environments and refers to the skills that are necessary to achieve an effective performance level in the job. Every job will have a set of key competencies, some of which are essential and others desired and all are required to do the job proper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Examp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1000"/>
          </a:bodyPr>
          <a:p>
            <a:pPr marL="242640" indent="-24264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 required in many jobs are: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ommunication skill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livering Resul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Use of Initiat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Planning and Organiz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Analytical and/or Strategic Think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ilding relationship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Team Work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9480" y="2590920"/>
            <a:ext cx="7162920" cy="761760"/>
          </a:xfrm>
          <a:prstGeom prst="rect">
            <a:avLst/>
          </a:prstGeom>
          <a:solidFill>
            <a:srgbClr val="0183b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55200" y="438120"/>
            <a:ext cx="7116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571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tion &amp; some interview bas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a competenc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use competency or behavioral interview approa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 of core compet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ing for the competency inter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-25596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5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0:04:44Z</dcterms:created>
  <dc:creator>Cisco Systems, Inc.</dc:creator>
  <dc:description/>
  <dc:language>en-US</dc:language>
  <cp:lastModifiedBy>Information Technology</cp:lastModifiedBy>
  <dcterms:modified xsi:type="dcterms:W3CDTF">2010-04-12T18:17:03Z</dcterms:modified>
  <cp:revision>122</cp:revision>
  <dc:subject/>
  <dc:title>Slide 1</dc:title>
</cp:coreProperties>
</file>